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AE94-C85D-4A23-8818-10B92E63B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A2A-F055-410F-A47A-5B750BC78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360A-B702-4530-91A0-905D476C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9A9-47A4-435C-940F-8915CD291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ABC1-5DC6-4F59-9D77-94F486A50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623-BFD1-4A9F-AF60-6AB8E1C2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9DD-D14B-4415-9A60-BA037FC2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7C455-4310-4312-A4B7-69902F7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AE707-E1B9-4BD4-942E-6861DFB7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26B55-E4A7-4574-A045-50F213A1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D039-A4C0-459A-89DC-BDA3AD8D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C665-CB77-4886-B799-B40B0CF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40C4E-583C-42CC-800F-B4760F2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5E80E-5103-4D22-B23F-59B9C4C9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B324F-A615-4A18-BC2E-EAE84EBD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77AE1-F711-4BE7-AE9C-AA8EFB5E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00CD2-8957-4477-995B-B23BF62F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2D3-4E6B-4B1A-A604-E1772728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BA24C-3AA3-48A5-8E69-1A6D8714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27D0-1F18-493A-B0B8-6D160D84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EB6CE-D818-4D2B-84CF-287F0A2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5624-CADF-4CF2-9973-96CEFA99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ECFFC-BE29-4F91-841A-8EC4817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F1C8-7761-4E12-8614-5B2A6AD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C0F9B-C162-4829-93BB-4D80C69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2CAC9-8FE6-4DA3-A3C4-9662908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516C0-B197-49F1-B5B9-77D24065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61BCA-C4C4-4C58-9CAB-6BEE910C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3FF-CEAB-4806-9C8C-DDACD51E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8CD9-CB83-459F-9B73-2E22AC26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C1D02-CE37-4418-9FD4-3AD24B40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2120D-F82C-4119-84C3-0B89BB9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67D0-1287-4DB0-B627-1A1F677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21D5-8C54-474D-89A8-0C0FEF8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81C6-AC0E-447D-AB74-CF46AB7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D7D77-F806-40D0-ADBC-584AA9F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8C6C-9C66-4B1C-A3DB-A0CAD22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6C95B-F9D4-4CEF-B527-EFB536D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7C9A8-E146-41AE-AAD1-F7C7D70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9B45-6CA6-4C52-A67F-3C3A3EBD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E773E-18D2-4369-8CAA-378781B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909B4-1CDF-491D-82AD-25F47A0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5FD2A-86D3-4F42-AE0A-C947CAD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E6B3-1204-4CD1-A659-EADD8D5D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1632B-72D2-494C-AFB1-8CC6E32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B4C09-4391-4DA2-B7A1-442C39D0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A263A-E606-441B-BC59-3522887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FAE3A-A1B6-42DE-8939-342916C5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F64D3-0729-440A-8724-72C3DA9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AC45E-508F-4698-8138-8451BBA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CA9-6FD8-4A44-AB36-C2F6FBF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5AF54-D2BF-4CAD-8A86-BF69AA9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58964-E279-4ECC-AB1B-0F7CCC0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F5907-FF48-4D0A-A48F-4013C2DA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65134-BA5E-4A81-A5BB-167C388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69918-7B26-4D86-B80E-FCB8D32F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45397-73CA-4AB3-A2E3-CAF6724C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691F4-7B6C-4FE9-BBF9-07E719A3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8872E-B5E9-4A36-A9C4-5CCC1610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2583E-34EB-421C-852A-2CA030A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6B54D-7A7B-4A66-B0B2-C306B98E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C417-6E95-40DC-9E8B-05AAF48D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84268-C882-4948-A3CB-9D7896DD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E2854-21D9-4150-A21D-6C1C8040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21509-8FB6-429A-B5AC-B7672AD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CBDDE-B886-48DE-9954-59D8348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D5ED3-AD32-45DA-A9B7-63699BF8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9DB59-257D-4BB2-A8F3-379E00C5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2B2B1-2042-4174-89E1-363947AE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D74F-B149-42C9-9A20-BE526F7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0C0F-50DD-40FE-9481-BAFBC5DB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919-DEE8-424D-AF77-95F3FC1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D1CF-E6C8-470C-B381-7E0B5E7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7B6-2071-4AB8-8E25-2FB4785F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6ABE-0814-4B04-9383-FDE7BCC6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A702-37A9-41C9-960C-5F4B49A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306-4647-49F5-9D3F-5FBD69FD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C4AA-2D9D-4D4D-A511-A0CAA1F5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759-1D64-4633-9CAF-2541EB6A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384A-E785-4205-865A-59854DCB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71D3-5F86-4E47-90B1-F7510F8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9F23-F8C0-474B-A1CE-87555A4F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D14A-B89B-420A-83B4-5D80ED3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8BC4-BD4B-41B9-A785-E955917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ABA-4A17-4F97-B8D4-8CAB73D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A5B1-16EF-46E7-95B9-CD8C7EB0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71D1-6572-4805-8364-06F11C8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C5FD-806B-483F-BC45-EF38DBC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A29D-626C-4543-A5F2-60F2980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FE18-8634-4E6D-A9C1-469A70F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5FD4-A06E-4A94-A913-3A86AFB2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1919-BB44-4BDA-BA37-C44B5446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0154-F39C-42A1-85CD-3B5EF44B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6909-09FE-462C-8D45-8C7D1C2C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B60D-3F40-4B13-932A-E6E1E35D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7DF-772B-446F-A442-42517F9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D82B-6027-4403-8433-8CE9B2A7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9A10-4CD8-4043-8D7D-749EEE7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794D7-EC16-40A2-BE60-9F4E6D5D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651A-42E2-4190-9E00-8D73AB0C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0BB2-AA95-495F-8778-1B32F337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3D8B-9E3E-4580-9D73-45742095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25EA-E770-443D-89E4-A142EDB0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9ECF-0D5E-4DC7-B61F-5E7F0441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0829-14D8-4FCD-B235-F8436F78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4607-C03A-4896-ACFC-5FB01976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287-B541-40DE-9E72-0FBDBE65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2089-116F-491C-A7A5-174BF131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C7DD5-D4DA-40BC-9A13-8A2BE9A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2263C-31A8-4769-8AF1-457EE886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C3B2-E353-4AF4-9E82-C8DBBB1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F9A63-7974-4664-967A-B0C38FCA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CB619-04DB-4D56-8AA2-CA73938A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952F-D5EC-4E03-B451-DCD59CE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E557-B5AA-49D0-A6A1-6146637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4035-A2CA-47A0-A081-8638BBF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78EF-BDBC-4CED-8DB4-2E1DC0D6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AD1-F667-4432-B46D-41567914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9770-D4CB-4C5D-8D6E-44959C03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73CD-5256-49BE-B794-51E58C7B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4C7D-DFA8-4AE2-BC00-48472A91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4CE4-6F93-4CD3-A103-49B866FB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6EB7-943B-468F-A6A4-E8E55BBC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B0D5-A837-4E53-8220-97B05E81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3726-FEE9-46BE-8F1F-5568B59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8139-E9A7-4C88-9EC8-E08E87D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293C2-88AD-4109-9797-7B06F4C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F5D9F-C1FA-465B-A4AD-6E90A53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3AD-FA79-4754-AEC3-293FF13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E560-540D-4A74-AD5E-FE1AE4BC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7EFE-2CDD-412A-8AD3-8BE7199F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55E9-290C-445A-B8ED-BA7251BA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DA96-19BF-486F-986B-5BD3664F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681A0-2853-47FC-BB50-4985F6D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492AE-6ED9-4C87-AD04-E60CE933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49D7-0469-442B-A3C8-D09593A4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1257-F8BD-45D1-BCEF-5EFADC2D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B005-C6FA-41C1-A40A-DA80542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F18A-0F40-4197-B032-2D77EF2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F47-39B3-440F-B032-FE90DA31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D8D1-E892-449A-BC8F-4E1EED79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8689-873D-44EF-B6DA-199BC5C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21D54-FD9F-40AF-8055-A2E420D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0DA3-5690-4284-93BF-347D4A6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D4A2-5718-4ED6-8850-748E8F81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937C-A8BA-4FD0-A625-754A2396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716E5-C18D-4EEF-9366-9D5473BC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200A-E40A-49E0-9B61-278ADDE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36EF-3EAA-4526-AE82-DA307584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99DE4-13C3-4EDE-89B5-CC7A27D2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649-4CAB-4E14-92A5-52D1220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7372-E30C-40BB-BDDB-5C30EF5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97C82-2EDE-4C63-BD04-134F57C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D0ABC-02C0-4D5D-B1CD-CED9292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94D68-78BD-4A11-8712-48EB8A3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B54F-A833-48AA-8445-D555802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F4AAA-B71C-494D-833D-5BEE1E12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6D18B-69F8-4C0E-9A37-99E1824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EEC9-1912-447A-A37D-63304909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9530B-8233-4320-A7A9-E0D5C2CE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E90D-504F-4D89-95AB-55A07328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53C-E5E4-4830-A8E3-FADC7C26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1072-9692-445C-9B6B-8B3A741F0F4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F23-F01C-4042-B7D7-6CBBDDE5FD6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146D-F5C5-4A6D-9BFE-BDA9E817B57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2F92-59A3-458F-9C20-9BEFE47FD78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B98-42CB-4D38-9F9D-AE00F2D95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98C2-0398-4E65-BB4A-8815E5D19FB8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CE0-6057-4619-9675-A247B060152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2205-1732-4EF2-ABAD-5865627FF2B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3196-F811-4025-A782-04621FD9D7A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A9E8-D50C-42E7-B20E-2DCDC6CB4D3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575-9E8D-45EA-9906-2102B92599DA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BD6-2844-4C2B-A28A-CB50F1002F8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из животне средин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и ек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ВАЊЕ ГВОЖЂ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150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, значај и физиолошка у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7854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за нормалан развој и функционисањ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еома малим количина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ва иск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апсолу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м није у стању сам да га ствара, већ се уноси искључиво исх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налази у организму у количини од 3,5 до 4 грама. Највише га 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хемоглобина (до 70 %), део се налази у миоглобину и ензими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25 % као резерва, везано за беланчевине феритин и хемосидерин, као и трансферин који служи за транспорт гвожђа међу тки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нс гвожђа и потребан ун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е врсте гвожђа које се уносе исхраном, и то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амирницама животињског порекла и месу и прерађевинама апсорбује се директно и искористљивост износи 20-3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цереалија, поврћа, семенки, легуминоза, воћа-искористивост 1-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7" descr="D:\Fax\Higijena\преузимање.jpg"/>
          <p:cNvPicPr/>
          <p:nvPr/>
        </p:nvPicPr>
        <p:blipFill>
          <a:blip r:embed="rId1"/>
          <a:stretch/>
        </p:blipFill>
        <p:spPr>
          <a:xfrm>
            <a:off x="4267080" y="42670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ubtitle 2"/>
          <p:cNvSpPr/>
          <p:nvPr/>
        </p:nvSpPr>
        <p:spPr>
          <a:xfrm>
            <a:off x="457200" y="0"/>
            <a:ext cx="7715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Токсичнос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е последице се јављ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уносу једне велике дозе,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онич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нагомилавању гвожђа у организ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 тровање гвожђ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цидентал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тко код одрасли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шће код мале деце која су конзумирала велике количине суплементационих пилула гвожђа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е подсећају на бомбоне што олакшава одлук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це да прог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у веће количине ових препар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Content Placeholder 3" descr="images (2).jpg"/>
          <p:cNvPicPr/>
          <p:nvPr/>
        </p:nvPicPr>
        <p:blipFill>
          <a:blip r:embed="rId1"/>
          <a:stretch/>
        </p:blipFill>
        <p:spPr>
          <a:xfrm>
            <a:off x="3157560" y="3048120"/>
            <a:ext cx="2828880" cy="1633320"/>
          </a:xfrm>
          <a:prstGeom prst="rect">
            <a:avLst/>
          </a:prstGeom>
          <a:ln w="0">
            <a:noFill/>
          </a:ln>
        </p:spPr>
      </p:pic>
      <p:sp>
        <p:nvSpPr>
          <p:cNvPr id="595" name="Subtit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трикције величине паковања суплемената су у употреби у САД-у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ница од 250 mg елементарног гвожђа се користи од 1978. Примена ових препорука за величину појединачна паковања се сматра да ј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ла до умањења бро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алности од трова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паратима гвожђ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тро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а до неколико сати од узимања гвожђ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 симптоми од стране гастроинтестиналног тра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стомак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ре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онкасто-сукрвичав садржај, помешан са таблетама или капсулама гвожђ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и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анос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вентилација због ацидозе и кардиоваскуларни колап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ubtitle 2"/>
          <p:cNvSpPr/>
          <p:nvPr/>
        </p:nvSpPr>
        <p:spPr>
          <a:xfrm>
            <a:off x="304920" y="152280"/>
            <a:ext cx="808344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мрт може да наступи веома брзо, унутар 6 сати од почетка тровањ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опходно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тв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нцентра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вожђа у плаз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адити радиографски снимак стома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очити нересорбоване таблете у дигестивном тракт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ечењ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трична лаваж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тивни уга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а еметика и лаксати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узиј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к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хипотенз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елатна терап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ubtitle 2"/>
          <p:cNvSpPr/>
          <p:nvPr/>
        </p:nvSpPr>
        <p:spPr>
          <a:xfrm>
            <a:off x="1332000" y="2971800"/>
            <a:ext cx="5333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54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хромат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е узроковано таложењем гвожђа у паренхимским органима. Најчеш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рајњи исход болести настаје инсуфицијенција поменутих орг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хемохроматоза је генетски узрокован поремећај метаболизма гвож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153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е су манифест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оза јетре,увећана, чврсте конзистен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 портне хипертензије (варикси једњака, асцитес, хепатична енцефалопатиј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јетре се јавља код 15-30% оболел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 мелитус се јавља у око три четвртине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D:\Fax\Higijena\images (23).jpg"/>
          <p:cNvPicPr/>
          <p:nvPr/>
        </p:nvPicPr>
        <p:blipFill>
          <a:blip r:embed="rId1"/>
          <a:stretch/>
        </p:blipFill>
        <p:spPr>
          <a:xfrm>
            <a:off x="1752480" y="4191120"/>
            <a:ext cx="3810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о сива пребојеност коже, дифузно распоређена, али јаче изражена на откривеним деловима тела (лице, врат, екстеремитети) и у подручјима перманентне ири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аложења гвожђа у миокарду, развија се кардиомиопатија са поремећајем ритма и срчаном инсуфицијенц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гвожђа у предњем режњу хипофизе смањује секрецију гонадотропина са клиничком манифестацијом атрофије тестиса и губитком либ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D:\Fax\Higijena\преузимање (5).jpg"/>
          <p:cNvPicPr/>
          <p:nvPr/>
        </p:nvPicPr>
        <p:blipFill>
          <a:blip r:embed="rId1"/>
          <a:stretch/>
        </p:blipFill>
        <p:spPr>
          <a:xfrm>
            <a:off x="5357880" y="4714920"/>
            <a:ext cx="26668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http://image.slidesharecdn.com/pse-111021102653-phpapp02/95/pse-29-728.jpg?cb=1319192910"/>
          <p:cNvPicPr/>
          <p:nvPr/>
        </p:nvPicPr>
        <p:blipFill>
          <a:blip r:embed="rId1"/>
          <a:stretch/>
        </p:blipFill>
        <p:spPr>
          <a:xfrm>
            <a:off x="642960" y="342900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"/>
          <p:cNvPicPr/>
          <p:nvPr/>
        </p:nvPicPr>
        <p:blipFill>
          <a:blip r:embed="rId2"/>
          <a:srcRect l="1286" t="7461" r="5103" b="2839"/>
          <a:stretch/>
        </p:blipFill>
        <p:spPr>
          <a:xfrm>
            <a:off x="4572000" y="3429000"/>
            <a:ext cx="4229280" cy="2071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Content Placeholder 3" descr="преузимање (7).jpg"/>
          <p:cNvPicPr/>
          <p:nvPr/>
        </p:nvPicPr>
        <p:blipFill>
          <a:blip r:embed="rId1"/>
          <a:stretch/>
        </p:blipFill>
        <p:spPr>
          <a:xfrm>
            <a:off x="5192640" y="428760"/>
            <a:ext cx="3951360" cy="2143080"/>
          </a:xfrm>
          <a:prstGeom prst="rect">
            <a:avLst/>
          </a:prstGeom>
          <a:ln w="0">
            <a:noFill/>
          </a:ln>
        </p:spPr>
      </p:pic>
      <p:sp>
        <p:nvSpPr>
          <p:cNvPr id="605" name="Subtitle 2"/>
          <p:cNvSpPr/>
          <p:nvPr/>
        </p:nvSpPr>
        <p:spPr>
          <a:xfrm>
            <a:off x="457200" y="457200"/>
            <a:ext cx="7854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н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 прегле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их налаза (повишено гвожђе у серум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псија јетре омогућава хистолошку дијагнозу 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хемијско доказивање гвожђа у јет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може доказати и у кожи, слузокожи желуца, седименту мокраћ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ја и уклањање вишка гвожђа постиже се понављаним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пункцијам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агенс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везују за вишак гвожђа у серуму и затим га избацују путем урина и сто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saturn-pictures-1"/>
          <p:cNvPicPr/>
          <p:nvPr/>
        </p:nvPicPr>
        <p:blipFill>
          <a:blip r:embed="rId1"/>
          <a:stretch/>
        </p:blipFill>
        <p:spPr>
          <a:xfrm>
            <a:off x="1981080" y="2325600"/>
            <a:ext cx="5562720" cy="38466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 је метал сивкасто плаве боје, мек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пионице руда олова, оловни бензин, ливнице, пестициди, антикорозивна заштита, акумулатори са оловом, индустрија нафте, штампарска индустр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неорганског олова је преко респиратор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 неорганског олова се деопонује у костима а остатак у унутрашњим орга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органског олова је преко респираторног тракта, ихалацијом п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аетил-о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 концентрација ових органских једињења је у можданом тк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лакшег облика тровањ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љ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о бледил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 облици манифестног тр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чешћи обл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ипација или дијар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вр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значај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 (C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(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(F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 (М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 (S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(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(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бден (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кација повраћања и гастрична лаважа - код ингестије отр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цијум глуконатом - за купирање оловних кол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битурати - код конвулзија и Манитол - у случају појаве церебралног ед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а терапија - код акутног тровања комбинована хелатна кура БАЛ-ом 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хроничног тровања даје се само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ајању од 5 д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8" descr="http://www.umjeravanjeiispitivanjelaboring.com/_Media/slomljeni_toplomjer_med.jpeg"/>
          <p:cNvPicPr/>
          <p:nvPr/>
        </p:nvPicPr>
        <p:blipFill>
          <a:blip r:embed="rId1"/>
          <a:stretch/>
        </p:blipFill>
        <p:spPr>
          <a:xfrm>
            <a:off x="2362320" y="2819520"/>
            <a:ext cx="4095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је сребрнасто бели метал у течном стању који већ на собној температури испа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на 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ници живе, топионице живиних руда, ивори сагоревања фосилних го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апсорпције жива се путем крви дистибуира по целом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бубре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ЦНС-у и ткивима богатим мас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не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неорганск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 ж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при гу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укус у ус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ојене ивице гингива-живин 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неорганским спојевима жив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ге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ални укус у устима, хиперсаливација, болови у устима, спонтано испадање зу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но-вегетативни синдром (психофизичка астенија, умор, несан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тре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ерет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е смет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0" y="1890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брнасто-бели мет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потреб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талург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Електрична индуст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дустрија боја и хемијска индустриј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Фунгиц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1071720" y="357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НГ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28600" y="533520"/>
            <a:ext cx="86868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УТЕВИ УНОШ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"/>
          <p:cNvSpPr/>
          <p:nvPr/>
        </p:nvSpPr>
        <p:spPr>
          <a:xfrm flipH="1">
            <a:off x="2819160" y="182880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4572000" y="18288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52280" y="2590920"/>
            <a:ext cx="8991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ПЛУЋ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ГИТ (~ 5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проф. експозиција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општа популац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В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ЈЕТРА, БУБРЕЗИ, ЕНДОКРИНЕ ЖЛЕЗДЕ, ПАНКРЕАС, МОЗ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ЕЦЕС (95 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при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експозициј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чн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b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g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л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л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фија не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осле краће или дуже експозиције парама или прашини мангана или његових једињ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латентног периода од 1 месеца до 10 и више година јављају се клинички знаци који пролази кроз 3 стад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ром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04920" y="4572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Симпто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рећег стадију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сећају на клиничку слику манганизм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ежан гов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и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табилност при ходу и стај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циони трем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дневна мобилизациона терапија хелатим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2EDT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Оправдано је ако је тровање дијагностиковано у иницијалној фази, када прекид експозиције доводи до спонтаног повлачења неуролошких испада, при чему се хелатима овај процес само убз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34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а бојних о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арс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једно најчеш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систе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е се путем крви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јвећим делом везан за хемоглобин Er, мањим делом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 за протеине плаз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 се у плућима, бубрезима и је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угроженији у насељеним местима су у близини термоелектрана и топио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 се ослобађа и сагоревањем др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уношења арсена контаминираном хра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угрожени радници у топионицама руда бакра и о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токсичан арсентриокс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токсичних ефеката арс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и хронично тр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арсе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хал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ге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халац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оч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носу и ждр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зање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 плућа – ре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гест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ђење и Повраћ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и - мириса на бели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а и влажна ко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оксичност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са есенцијалним елемен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комплекса метал-про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форма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 и лета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и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 - за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ације хроничног тровања обухватај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жи и нок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ска полинеур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централног нервног система, јетре и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лошки поремећаји са панцитопен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ћање ризика за настанак карцинома коже, је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 арс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ести терапију едема плућ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сати отров из желуца провоцираним повраћањем и испирањем желу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коже прањ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ти поремећај електроли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ција дисбаланса воде и електрол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је потребна хемодијализа или перитонеална дијал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КАДМИЈ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 је метал сребрнасто беле боје, лако испарљ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ов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 мишићи, бубр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ринарни систем, 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и експозициј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пиониц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заваривањ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галванизацији мет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никл-кадмијумских бате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и употреба кадмијумских лег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боја, стакла, керамике и пластичних ма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вештачког ђубрива и пестиц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ронска и нуклеарна индуст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халацијом  кад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ница и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 и к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њуктивитис и ри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експозиције већим концентрациј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 пнеумо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пнеумо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гестијом  кадмиј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и г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и пр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кадмиј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од стране респирато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“Итаи-ита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6840" y="1294920"/>
            <a:ext cx="6095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трајно излагање кадмију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оди до болести која је у Јапану позната као “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-итаи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ата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о-зглобни систем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ве погођене овом болешћу имале су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количине кадмијума уз недостатак витамина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ве то као последицу контаминациј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ринча узгајаног на тлу које је наводњавано водом загађеном из рудника ци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Itai_itai.png"/>
          <p:cNvPicPr/>
          <p:nvPr/>
        </p:nvPicPr>
        <p:blipFill>
          <a:blip r:embed="rId1"/>
          <a:stretch/>
        </p:blipFill>
        <p:spPr>
          <a:xfrm>
            <a:off x="6477120" y="1214280"/>
            <a:ext cx="2666880" cy="29005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Tomokos_hand.gif"/>
          <p:cNvPicPr/>
          <p:nvPr/>
        </p:nvPicPr>
        <p:blipFill>
          <a:blip r:embed="rId2"/>
          <a:stretch/>
        </p:blipFill>
        <p:spPr>
          <a:xfrm>
            <a:off x="6477120" y="4087800"/>
            <a:ext cx="2666880" cy="277020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позициони тесто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на концентрација кадмиј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, коси и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ед урина (протеинурија, гликозурија, аминоацидурија, повећан ниво фосфата и калц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невни тест мобилизације хелатима (за процену величине депоа кадм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карлице и плућ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ам доспевају на неколико нач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јом стране ма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57200" y="214200"/>
            <a:ext cx="82296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е мере лечења тровања кадмијумом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ивање повраћања и гастрична лаважа (уколико је дошло до ингест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торинг и лечење респираторне инсуфицијенције и лечење едема плућа (инхалационо тров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е 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азриво јер је доказано да примена ових агенаса повећава нефротоксично дејство кадмију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 терапија оштећења бубрега и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кција дисбаланса воде и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08000" y="228240"/>
            <a:ext cx="8578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елемент биљака и животи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на и кожна индуст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отограф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бо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цеме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тех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кера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ун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тивно  и алергогено дејство на кожу и слузо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рматитис са улцерацијама или без њ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ергијске мнифестације екцематозног и неекцематоз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ом ткиву и бронх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ом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 повиш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хро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 и у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устријс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, ингестијом и 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сањем алкохола под дејством алкохолне дехидрогеназе настаје токсична мравља киселина која доводи до аци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пролази кроз три стадиј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дијум пиј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дражај горњих респираторних путева  и о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тентни стадију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побољ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нифестни стад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лакшег облика тров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ађ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равноте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етње у виду-скотоми, сужење видног поља, слеп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тежег облика тр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и болови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конф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аж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–окупира алкохолну дехидрогеназу и спречава метаболисање метанола до мрављ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дијализа-отклања метанол и мрављу кисе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 ацидоза се лечи бикарбона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пестицид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is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га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re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смеше супстанци хемијског или  природног  порекла, намењене за превенцију, уништавање, сузбијање или смањење количине штеточин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б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ен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о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ик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ерилиз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л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ус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ио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итрофен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ксисир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ирид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з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ар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алим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ЕВИ ИЗЛУЧИВ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хнутим ваздух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жу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ГИТ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их, лојних  и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ађивањем у длаке и но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а и билијарна екскреција представљају најважније путеве излучивања. Излучивање преко млечних жлезда је од токсиколошког значаја за мајке доји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е структуре, добро растворљиве у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знатији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, инхалацијом, ингес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,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стезије, мишићни тре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слаб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цефал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ру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експозиције, спречавање апсорпције и убрзање елими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рање конвулзија давањем диазе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респиратор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а терапија (С и В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емијском саставу ради се о веома токсичним естрима фосфорне кисел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за уништавање штетних инсеката, гриња, гљивица, корова и немат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у употре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т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то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а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9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9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9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9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9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9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ар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рим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ре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констри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цикул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-клонички грче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флек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ул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ромена понашања, вртоглавица, конфузија, халуцинације, губитак свести, парализа респираторних миш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ЦНС-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дражљивост и анксиоз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мена распо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пам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концентр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нзомоторна неуропат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квс-а и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гастр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ски дермат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руктивни бронх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85480" y="999720"/>
            <a:ext cx="862956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- Прање коже водом и сапуном, испирање очију, уста и желу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 дисајних путева (аспирација секр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-сулфат - као антагонист ацетилхолину, блокира мускаринске ефекте, али не и никотинске и центр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не холинестеразе (каузална терап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 терапија-кардиотоници, бронходилататори, антибиотици, кисеоник, дијазе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28760" y="7855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мати представљају Естре карбаминских киселин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као инсектициди, хербициди и фунги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и ове групе пестицида су: Бутилат, Циклоат, Молин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 и 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 мускаринске, никотинске и централне еф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, деконтаминација, ослобађање дисајних путева, симптоматс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сулфат - као антагонист ацетилхолину, блокира мускаринске еф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лоз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енон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и су, продиру у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у ЦНС и доводе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дат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УТ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лучајна, намерна) → услед нагле изложенос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м колич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усле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ог периода излагања ниским концентрац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175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9680" y="10000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 мере заштите особа које су изложене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ознавање радника са опасностима од пестицида и снабдевање са упутствима за безбедно руков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могућити радницима прање руку при прекиду посла и туширање на крају радног вр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езбедити пружање прве помоћи у случају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начити сваки препарат уколико је отрован,начин његовог растварања са препоруком занамену, заштитне мере и савет код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ви радници који раде са токсичним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заштићени радним оделима, капом штитником, непропустљивим заштитницима за рамена, рукавицама, респираторима и наочар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д прскања пестицида из авиона, пилот не сме учествовати у њиховом утовару, не сме летети кроз маглу и мора да носи бели конбинезон. За овакве послове морају се употребљавати специјални ави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иш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DD ("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 -2,3,7,8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,3,7,8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фу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B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разградив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на људски орг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, мутаген, тератоге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токсичан, хепатотоксич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и дисру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ин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зложенос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м 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хлорак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жно обољење које карактеришу  кожне лезије налик акн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ос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лорације и претеране длака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ненча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ат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ача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као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спроду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љи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647720" cy="14335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7143840" y="785880"/>
            <a:ext cx="154620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јетн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1-1971. годин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O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л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јс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вао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D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је 500000 деце с тешким деформитет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спонтаних побача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разних типова карцин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5000760" y="4357800"/>
            <a:ext cx="319068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928800" y="4357800"/>
            <a:ext cx="3106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раствар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алифат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ароматични (циклични)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- халогени деривати угљовод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алкохоли, етри, естри, алдехиди 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- алицикл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- угљендисулф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бари и молери, радници на чишћењу и одмашћивању, у металној, електронској и графичкој индустрији, на преради дрвета и изради намештаја, у индустрији гуме и пластике,  хемијској индустрији,  на  изради  текстила,  одеће,  коже  и обуће, прехрамбеној индустрији, хемијским лаборато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е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е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ранс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улир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ки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Токсикокинетика</a:t>
            </a:r>
            <a:r>
              <a:rPr b="1" lang="sr-Latn-C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мет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137040" y="1197000"/>
            <a:ext cx="1146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Х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324000" y="2133720"/>
            <a:ext cx="187164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187280" y="2924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55640" y="3716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жу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132000" y="2708280"/>
            <a:ext cx="144000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крв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4932360" y="2924280"/>
            <a:ext cx="2232000" cy="8254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стали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рг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20364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2400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фе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203640" y="3860640"/>
            <a:ext cx="143964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бубр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076720" y="4869000"/>
            <a:ext cx="100800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зн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6227640" y="4869000"/>
            <a:ext cx="987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5076720" y="3860640"/>
            <a:ext cx="1440000" cy="3988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5"/>
          <p:cNvSpPr/>
          <p:nvPr/>
        </p:nvSpPr>
        <p:spPr>
          <a:xfrm flipH="1">
            <a:off x="2195280" y="1628640"/>
            <a:ext cx="93636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6"/>
          <p:cNvSpPr/>
          <p:nvPr/>
        </p:nvSpPr>
        <p:spPr>
          <a:xfrm>
            <a:off x="576360" y="2637000"/>
            <a:ext cx="349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1547640" y="3429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"/>
          <p:cNvSpPr/>
          <p:nvPr/>
        </p:nvSpPr>
        <p:spPr>
          <a:xfrm flipV="1">
            <a:off x="900000" y="2565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1547640" y="2637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70036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1"/>
          <p:cNvSpPr/>
          <p:nvPr/>
        </p:nvSpPr>
        <p:spPr>
          <a:xfrm flipH="1">
            <a:off x="2556000" y="3213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2"/>
          <p:cNvSpPr/>
          <p:nvPr/>
        </p:nvSpPr>
        <p:spPr>
          <a:xfrm>
            <a:off x="457200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4500360" y="321300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4"/>
          <p:cNvSpPr/>
          <p:nvPr/>
        </p:nvSpPr>
        <p:spPr>
          <a:xfrm>
            <a:off x="3851280" y="4437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5"/>
          <p:cNvSpPr/>
          <p:nvPr/>
        </p:nvSpPr>
        <p:spPr>
          <a:xfrm>
            <a:off x="3924360" y="350028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6"/>
          <p:cNvSpPr/>
          <p:nvPr/>
        </p:nvSpPr>
        <p:spPr>
          <a:xfrm>
            <a:off x="4572000" y="3357720"/>
            <a:ext cx="93672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7"/>
          <p:cNvSpPr/>
          <p:nvPr/>
        </p:nvSpPr>
        <p:spPr>
          <a:xfrm flipH="1">
            <a:off x="5435640" y="429264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8"/>
          <p:cNvSpPr/>
          <p:nvPr/>
        </p:nvSpPr>
        <p:spPr>
          <a:xfrm>
            <a:off x="6084720" y="4292640"/>
            <a:ext cx="432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3780000" y="3428640"/>
            <a:ext cx="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0"/>
          <p:cNvSpPr/>
          <p:nvPr/>
        </p:nvSpPr>
        <p:spPr>
          <a:xfrm flipH="1" flipV="1">
            <a:off x="4427280" y="3428640"/>
            <a:ext cx="936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179280" y="6165720"/>
            <a:ext cx="8229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Судбин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метал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оргнанизм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посл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ношењ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раном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429680" y="1217520"/>
            <a:ext cx="17143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звор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оксичних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ме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429680" y="2341440"/>
            <a:ext cx="17143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7286760" y="3214800"/>
            <a:ext cx="1857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ранспорт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дистрибу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5"/>
          <p:cNvSpPr/>
          <p:nvPr/>
        </p:nvSpPr>
        <p:spPr>
          <a:xfrm>
            <a:off x="7286760" y="4869000"/>
            <a:ext cx="18572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чк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пат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з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токсичн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ад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токсич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0" y="999720"/>
            <a:ext cx="903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к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р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штит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ск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о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гијенске мере заштит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н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пе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з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он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дљи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сол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билиз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енад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ње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ћива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на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6:21:48Z</dcterms:created>
  <dc:creator>Vlatka Brumen</dc:creator>
  <dc:description/>
  <dc:language>en-US</dc:language>
  <cp:lastModifiedBy>Maja</cp:lastModifiedBy>
  <dcterms:modified xsi:type="dcterms:W3CDTF">2023-09-14T09:34:13Z</dcterms:modified>
  <cp:revision>270</cp:revision>
  <dc:subject/>
  <dc:title>ZDRAVSTVENI UČINCI METALA</dc:title>
</cp:coreProperties>
</file>